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012-631B-4CBF-B73B-7BCB11A3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2B5-CE8E-4B0B-A8C1-2D129E6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D56-9AEC-45E8-B3FC-9113085B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819-7285-4B05-BD84-31147150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2DF2-045F-4158-98A4-A12AFBCF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3AB1-A840-4349-AB0D-C52F19DD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5E94-D2AA-4709-9A60-4B94C36C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B9B9-7A31-4983-A15B-CD80E04A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B4EC-3DA6-456E-910C-AF77B251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05BA-347B-47C2-BFE4-3215EB59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DB90-8976-4DDD-92D8-B96967E1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556-962B-4CCF-9459-7A798A6A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165D-A612-4474-9411-B45FD2CD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599C-C7D7-4E8C-B9B6-E11449DF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9CAB-B72C-45C3-9CB7-990E4119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D1C4-A518-4D0E-8061-6DF64C28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B7FD-F0F6-4444-94FC-D75FEB87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640-6BE8-490C-B9DA-A9BB8304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6D7-5061-4BF7-9150-A9F1545E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D04-EF06-49C1-B2F5-E94BA3DA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450-286C-44CA-8BF6-842C6542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42C-5AF7-460B-AE96-AA42FC92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87C-0AF5-4891-BD51-E276772A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A5F-8D4E-41BE-B745-5D96B0CA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F09C-8295-4DEB-9115-640AB47B67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79C0-C8EB-4F76-971F-1D1471743F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9900"/>
                </a:solidFill>
                <a:latin typeface="Blackadder ITC"/>
              </a:rPr>
              <a:t>Rome</a:t>
            </a:r>
            <a:endParaRPr b="0" lang="en-US" sz="1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Blackadder ITC"/>
              </a:rPr>
              <a:t>By Amanda Dieteman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00400" y="4800600"/>
            <a:ext cx="267660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a500"/>
                </a:solidFill>
                <a:latin typeface="Edwardian Script ITC"/>
              </a:rPr>
              <a:t>Points of attraction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f the most famous attractions is the colosseu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take tours of the colosseu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losseum is 159 feet t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has 80 entran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a500"/>
                </a:solidFill>
                <a:latin typeface="Edwardian Script ITC"/>
              </a:rPr>
              <a:t>Points of attraction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urelian column is 30 meters h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made of 28 blocks of carrara mar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on a large rectangular pedest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locks show parts of the w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Column of Marcus Aurelius"/>
          <p:cNvPicPr/>
          <p:nvPr/>
        </p:nvPicPr>
        <p:blipFill>
          <a:blip r:embed="rId1"/>
          <a:stretch/>
        </p:blipFill>
        <p:spPr>
          <a:xfrm>
            <a:off x="6019920" y="1600200"/>
            <a:ext cx="1861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Edwardian Script ITC"/>
              </a:rPr>
              <a:t>Hotels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eat hotel is the eurostars international pal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has a great vie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within walking distance of Piazza Venezia, the colosseum and Trevi Fount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has a restaurant and room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Eurostars International Palace, Rome, IT"/>
          <p:cNvPicPr/>
          <p:nvPr/>
        </p:nvPicPr>
        <p:blipFill>
          <a:blip r:embed="rId1"/>
          <a:stretch/>
        </p:blipFill>
        <p:spPr>
          <a:xfrm>
            <a:off x="4857840" y="1643040"/>
            <a:ext cx="36194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Edwardian Script ITC"/>
              </a:rPr>
              <a:t>Restaurants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ood restaurant is the “Ciak si Mangia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restaurant for the dea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sometimes has a deaf wait staff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ccepts visa card, master card and sky ca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48164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308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Edwardian Script ITC"/>
              </a:rPr>
              <a:t>Food 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the foods in Rome are pizza, spaghetti and calz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lunch contains bread, salad, olives, cheese, fruits and nu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dinner their meal contains mostly veget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drink a lot of w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48320" y="2478240"/>
            <a:ext cx="403848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Edwardian Script ITC"/>
              </a:rPr>
              <a:t>Phrases to know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ona sera=good ev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ve=he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ao=h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=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=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ongiorno=good mo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ve è il locale di rip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62680" y="1722600"/>
            <a:ext cx="320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0:22:00Z</dcterms:created>
  <dc:creator>36382</dc:creator>
  <dc:description/>
  <dc:language>en-US</dc:language>
  <cp:lastModifiedBy>Marcia</cp:lastModifiedBy>
  <dcterms:modified xsi:type="dcterms:W3CDTF">2009-09-16T13:28:49Z</dcterms:modified>
  <cp:revision>7</cp:revision>
  <dc:subject/>
  <dc:title>Rome</dc:title>
</cp:coreProperties>
</file>